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6B1F-9E3C-404F-9C80-FAE9BDAF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AC40-15E4-47FA-A5BC-DFF7012C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86DE-A08A-41C0-A341-5C844A6B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7B98-AF33-4712-A7BE-9B777C8B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AB00-C3A3-4DCC-AB4E-8C7D85AD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007A-25EB-463C-8E9A-8223D25E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2CD2-771A-462F-BCF9-21EA4792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40CC-3DE2-45F1-9FA8-47892BF3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4314-634C-4B0B-9F4B-F7723733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A0A9-21D7-4429-A653-4DDC10BB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64EA-297C-4FCD-9C6B-CEFE82EB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0F91-065B-4938-A108-0D907852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3E5-B0B8-47F5-991F-520DBE26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45D8-A1CC-4DB2-9155-59EBC413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7E77-0C54-4A20-9D56-0FAF416F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E1BD-55A3-4160-B52D-C834B06B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F7B9-AA44-4391-A75D-FE555DAA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1978-003E-4E2B-AEF8-572CA2D9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6071-73D2-451B-9EC6-16E157F0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3B4F-3CC1-4B28-A866-E97D22E0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B122-DB0F-4A3D-B8A4-1BBD0206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8BE3-0B41-4A31-A4F3-DB38E26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CC09-2D98-4DAD-908F-931C6C3E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53C6-BA88-46BD-A513-A64A58A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B196-89A4-4C1F-94D3-85153805677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83F7-B348-4957-A6A0-2D4B9013ACF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5040"/>
            <a:ext cx="9577440" cy="66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243 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793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 Аз пращам ви, Аз, Бог и ваш Учител, на служба ви признах!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Аз пращам ви, Аз, Князът на душите, затуй ви и избрах!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Напред със смелост вий вървете,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със знамена вий полетете!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Макар че Сатана се противи,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Аз пращам ви!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Аз, Аз пращам ви!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300600"/>
            <a:ext cx="100821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2. Аз пращам ви и Моя Дух ви давам,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за да говорите!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На простите езика Аз развързвам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и поучавам ги.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Навреме давам на устата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слова, а на духа - просвета. Свидетелству­вайте навред, на вси!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Аз пращам ви!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Аз, Аз пращам ви!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-327240"/>
            <a:ext cx="957744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Аз пращам ви, но в края ще ви свикам за вечна събот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рният там при Моя трон ще ид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поклон, възхит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й служите на Цар пречуд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вас венец се готви див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 кръст, борба - там мир в безкрайни дни 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пращам 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, Аз пращам в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7T16:41:14Z</dcterms:modified>
  <cp:revision>178</cp:revision>
  <dc:subject/>
  <dc:title>Slide 1</dc:title>
</cp:coreProperties>
</file>